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E2E-2531-4CE1-A079-88DF9EB6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715-5E1F-45A2-8FD6-CFE4EA4B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4F0-9179-4CB1-ACA1-56B363AD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D46-C624-4C52-9FAE-5D11BDE2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585-6210-4BC2-AF6B-F003EEE1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4D1-41C3-41A2-BFDB-30B5D286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C9C-E72E-4C2C-ABF4-43BE45C5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471-48C7-4BF8-95AC-6DDC6774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44B-5A15-4702-9007-5DD1B8CA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E7E-2A60-46BE-B577-7C05C4EA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0EAB-5385-46FA-9EC9-F8D0AE4E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FB8-A6F6-4C6D-BD78-82287425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9C0B-391B-4642-B605-C3EF9561494B}" type="slidenum">
              <a:rPr b="0" lang="es-E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800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79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3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15772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96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340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544356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sena</cp:lastModifiedBy>
  <dcterms:modified xsi:type="dcterms:W3CDTF">2010-09-29T01:21:03Z</dcterms:modified>
  <cp:revision>5</cp:revision>
  <dc:subject/>
  <dc:title>Diapositiva 1</dc:title>
</cp:coreProperties>
</file>