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5AF-E924-4C0A-99FD-CAE5773C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697-7965-426E-8879-1464BC2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620-2D28-4E57-8708-9AEF884E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09A-09BD-4932-84ED-B3040E51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A2A-66B2-4B11-8BC5-B7A462E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266-5F1C-490C-862B-92AA4E2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25D-E2A2-4B61-81AD-28FD1E1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837-0E8F-4969-B20A-8F4961A0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D3A-BF0E-4DE5-BFEA-178C0B6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3B2-A955-4D53-8418-9FCAAFD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6F4-2581-4CD7-BC14-8710409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6EE-1912-4434-847A-3DEB6D0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8AF-15D5-444B-AA66-EBEC5C882367}" type="slidenum">
              <a:rPr b="0" lang="es-E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800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79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3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15772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96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340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544356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sena</cp:lastModifiedBy>
  <dcterms:modified xsi:type="dcterms:W3CDTF">2010-09-29T01:21:03Z</dcterms:modified>
  <cp:revision>5</cp:revision>
  <dc:subject/>
  <dc:title>Diapositiva 1</dc:title>
</cp:coreProperties>
</file>