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DF6-1ACC-47DE-9D80-BE22EE22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A82-EAED-41BE-8BCD-D7DC5F5C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9E1-4C35-4031-9A24-5BA7F217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564-4F90-4C9B-9C0B-C026A5FF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45A-9EB1-414A-9DDC-224AD55D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11A-5012-4D1D-8D3E-EAAC4018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DA8-177B-473A-B5D8-60307286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9FA-C2E2-4555-9382-3DC2EBEB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FB3-BF21-48A8-8626-F0004C90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089-A0B7-42DE-B8B1-E8AD4619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C2C-E47F-4A55-8F83-0A985490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5A4-C00D-433B-81F1-59141D84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8318160"/>
            <a:ext cx="284184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318160"/>
            <a:ext cx="385776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8160"/>
            <a:ext cx="284148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C6C2-1BE6-43EE-AB61-3959194DB8EF}" type="slidenum">
              <a:rPr b="0" lang="es-E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7920" y="2265480"/>
          <a:ext cx="4697280" cy="3978000"/>
        </p:xfrm>
        <a:graphic>
          <a:graphicData uri="http://schemas.openxmlformats.org/drawingml/2006/table">
            <a:tbl>
              <a:tblPr/>
              <a:tblGrid>
                <a:gridCol w="861840"/>
                <a:gridCol w="3835440"/>
              </a:tblGrid>
              <a:tr h="5824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L RECURSO HUMA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IZ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79"/>
          <p:cNvSpPr/>
          <p:nvPr/>
        </p:nvSpPr>
        <p:spPr>
          <a:xfrm>
            <a:off x="3211560" y="1019160"/>
            <a:ext cx="5851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CESOS DEL CAS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3"/>
          <p:cNvSpPr/>
          <p:nvPr/>
        </p:nvSpPr>
        <p:spPr>
          <a:xfrm>
            <a:off x="-720720" y="5240160"/>
            <a:ext cx="244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23880" y="1976400"/>
          <a:ext cx="11221920" cy="5157720"/>
        </p:xfrm>
        <a:graphic>
          <a:graphicData uri="http://schemas.openxmlformats.org/drawingml/2006/table">
            <a:tbl>
              <a:tblPr/>
              <a:tblGrid>
                <a:gridCol w="1650960"/>
                <a:gridCol w="349200"/>
                <a:gridCol w="3306960"/>
                <a:gridCol w="1596960"/>
                <a:gridCol w="1919160"/>
                <a:gridCol w="2398680"/>
              </a:tblGrid>
              <a:tr h="617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ESTRATE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 Estratég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Información 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ón Propósito, Misión, Valores y Polític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ESTRATEG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liegue de Objetivos Plan de Gestión Comunicación Propósito, Misión, Valores, Políticas y Estrategia 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Gestión Control Gestión Control presupues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 TALENTO HUM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ocat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ámenes psicotécn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 pers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De entrevistados vs. Numero de ad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E TALENTO HUMANO PARTES TERCERIZ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exám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ntrevi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96"/>
          <p:cNvSpPr/>
          <p:nvPr/>
        </p:nvSpPr>
        <p:spPr>
          <a:xfrm>
            <a:off x="2828880" y="922320"/>
            <a:ext cx="748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TRIZ PARA PRIORIZAR LOS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09480" y="365040"/>
          <a:ext cx="10960200" cy="7853400"/>
        </p:xfrm>
        <a:graphic>
          <a:graphicData uri="http://schemas.openxmlformats.org/drawingml/2006/table">
            <a:tbl>
              <a:tblPr/>
              <a:tblGrid>
                <a:gridCol w="2024280"/>
                <a:gridCol w="287280"/>
                <a:gridCol w="2871720"/>
                <a:gridCol w="1558800"/>
                <a:gridCol w="1874880"/>
                <a:gridCol w="234324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de solicitudes de servicio, fecha, comportamiento históric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de acuerdo a horarios Banco de la Repu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r r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del personal de escol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cuerdo al monto a transpor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de reportes en vía de comunicación push to talk (Avantel o Comce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preci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programados vs. Reportes hech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roblemas vs rutas con incident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programado vs. tiempo utiliz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y reporte de cumpli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t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para 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ordenes recibidas vs No de ordenes cumpli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con  problemas vs. Ordenes exitos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e de oper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es, cont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recib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volu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ón ru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personal dependiendo de la ruta (grado de seguridad, vulnerab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push to talk (Avant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entregados vs. Pedidos devuel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a tiempo vs, pedidos con retr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cumpl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no-conform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devol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365040"/>
          <a:ext cx="10960200" cy="5443560"/>
        </p:xfrm>
        <a:graphic>
          <a:graphicData uri="http://schemas.openxmlformats.org/drawingml/2006/table">
            <a:tbl>
              <a:tblPr/>
              <a:tblGrid>
                <a:gridCol w="1735200"/>
                <a:gridCol w="289080"/>
                <a:gridCol w="3159000"/>
                <a:gridCol w="1558800"/>
                <a:gridCol w="1874880"/>
                <a:gridCol w="234324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satisfac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 la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manten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horas trabajados vs. horas en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sier de cada vehiculo, moto, máquina, equipo de comp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mantenimiento o alistamiento según progra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ón lista de chequeo todos los d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visu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ercances vs. Rutas con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de chequ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iario comportamiento del vehic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de actualización 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ejo de ar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os de operación de la delincu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ción efec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inter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ción y toma de dec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a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s de efe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21:00:03Z</dcterms:created>
  <dc:creator>User</dc:creator>
  <dc:description/>
  <dc:language>en-US</dc:language>
  <cp:lastModifiedBy>sena</cp:lastModifiedBy>
  <dcterms:modified xsi:type="dcterms:W3CDTF">2010-09-29T01:21:03Z</dcterms:modified>
  <cp:revision>5</cp:revision>
  <dc:subject/>
  <dc:title>Diapositiva 1</dc:title>
</cp:coreProperties>
</file>