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74B-FBAA-4056-A541-3CF83228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1D4-3344-419B-A141-D72A8E83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9CD-C85F-4473-B065-AEAB4553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B6D-4748-43A2-B674-AED7002B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273-FE9D-410D-8FA3-262FB7F9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0CE-A3FF-41BE-88D0-59255F49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718-676C-4F07-A115-CD715FE8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A68-41E6-4754-A9EB-D44620AA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214-E8A8-49B9-989E-62777730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15A-50F9-47CE-9C2E-CDA72991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6A1-25A9-4609-A3A1-19E88C9D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463-BCEA-4A37-96D2-12413562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8318160"/>
            <a:ext cx="284184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318160"/>
            <a:ext cx="385776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8160"/>
            <a:ext cx="284148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DA520C50-29E2-4BEB-8DB9-D5D1C5A4100B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87920" y="2265480"/>
          <a:ext cx="4697280" cy="3975120"/>
        </p:xfrm>
        <a:graphic>
          <a:graphicData uri="http://schemas.openxmlformats.org/drawingml/2006/table">
            <a:tbl>
              <a:tblPr/>
              <a:tblGrid>
                <a:gridCol w="861840"/>
                <a:gridCol w="3835440"/>
              </a:tblGrid>
              <a:tr h="5824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L RECURSO HUMA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IZ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3211560" y="1019160"/>
            <a:ext cx="5851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S DEL CAS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20720" y="5240160"/>
            <a:ext cx="244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23880" y="1976400"/>
          <a:ext cx="11221920" cy="5775480"/>
        </p:xfrm>
        <a:graphic>
          <a:graphicData uri="http://schemas.openxmlformats.org/drawingml/2006/table">
            <a:tbl>
              <a:tblPr/>
              <a:tblGrid>
                <a:gridCol w="1650960"/>
                <a:gridCol w="349200"/>
                <a:gridCol w="3306960"/>
                <a:gridCol w="1596960"/>
                <a:gridCol w="1919160"/>
                <a:gridCol w="2398680"/>
              </a:tblGrid>
              <a:tr h="617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ESTRATE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ción Estratégic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Información Relev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ón Propósito, Misión, Valores y Polític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ESTRATEG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liegue de Objetivos Plan de Gestión Comunicación Propósito, Misión, Valores, Políticas y Estrategia 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Gestión Control Gestión Control presupues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 TALENTO HUM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ocat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ámenes psicotécn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 pers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De entrevistados vs. Numero de ad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E TALENTO HUMANO PARTES TERCERIZ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exám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entrevi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satisfac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 la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828880" y="922320"/>
            <a:ext cx="748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RIZ PARA PRIORIZAR LOS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09480" y="365040"/>
          <a:ext cx="10960200" cy="7858080"/>
        </p:xfrm>
        <a:graphic>
          <a:graphicData uri="http://schemas.openxmlformats.org/drawingml/2006/table">
            <a:tbl>
              <a:tblPr/>
              <a:tblGrid>
                <a:gridCol w="2024280"/>
                <a:gridCol w="287280"/>
                <a:gridCol w="2871720"/>
                <a:gridCol w="1558800"/>
                <a:gridCol w="1874880"/>
                <a:gridCol w="234324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 de solicitudes de servicio, fecha, comportamiento históric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de acuerdo a horarios Banco de la Repu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r r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del personal de escol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cuerdo al monto a transpor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de reportes en vía de comunicación push to talk (Avantel o Comce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preci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programados vs. Reportes hech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roblemas vs rutas con incident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programado vs. tiempo utiliz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y reporte de cumpli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t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para 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ordenes recibidas vs No de ordenes cumpli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con  problemas vs. Ordenes exitos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e de opera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es, cont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recib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i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 devolu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ón rut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personal dependiendo de la ruta (grado de seguridad, vulnerab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push to talk (Avant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entregados vs. Pedidos devuel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a tiempo vs, pedidos con retr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cumpl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no-conform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devol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365040"/>
          <a:ext cx="10960200" cy="6988320"/>
        </p:xfrm>
        <a:graphic>
          <a:graphicData uri="http://schemas.openxmlformats.org/drawingml/2006/table">
            <a:tbl>
              <a:tblPr/>
              <a:tblGrid>
                <a:gridCol w="1735200"/>
                <a:gridCol w="289080"/>
                <a:gridCol w="3159000"/>
                <a:gridCol w="1558800"/>
                <a:gridCol w="1874880"/>
                <a:gridCol w="234324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CO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de client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Necesidades y expectativas de Cli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Reclamaciones Cli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entregas a client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Visi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Plan comer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l. Compromis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Entreg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ción y visi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. de pedidos y análisis de ven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Compromisos Cliente</a:t>
                      </a:r>
                      <a:br>
                        <a:rPr sz="1300"/>
                      </a:b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cuentas clav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Cs de Servici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Visit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comerc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compromis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 Clav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24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C de Servicio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manten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horas trabajados vs. horas en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sier de cada vehiculo, moto, máquina, equipo de comp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mantenimiento o alistamiento según progra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ón lista de chequeo todos los d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visu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ercances vs. Rutas con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de chequ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iario comportamiento del vehic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de actualización 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ejo de ar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os de operación de la delincu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ción efec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interpers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ción y toma de dec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a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s de efe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21:00:03Z</dcterms:created>
  <dc:creator>User</dc:creator>
  <dc:description/>
  <dc:language>en-US</dc:language>
  <cp:lastModifiedBy>PERSONAL</cp:lastModifiedBy>
  <dcterms:modified xsi:type="dcterms:W3CDTF">2010-09-26T14:47:45Z</dcterms:modified>
  <cp:revision>4</cp:revision>
  <dc:subject/>
  <dc:title>Diapositiva 1</dc:title>
</cp:coreProperties>
</file>