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721-72C2-4197-BCEE-A7799785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07E-BC6F-4537-B608-6ABF484D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822-58F9-4CE8-8939-1FD26C9C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D6E-D893-4C2E-9102-E488647C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572-8269-4145-9DB9-082BC16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EF4-5744-4E11-BD95-0B9F1562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C59-ABC8-438F-93BA-2BEE4605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91B-1DE2-4770-8B76-C21BBAAD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1E9-E236-46F0-9909-7A3FE93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ABE-6EC8-4AEC-A60E-EF71564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260-EEE5-4956-8B61-3EFEA1D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385-D488-492F-BEEB-764EB6B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63D5AE8-CB9F-4D63-AF53-CC9DEDA15136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512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77548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808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698832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Necesidades y expectativas de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Reclamaciones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entregas a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Plan comer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l. Compromis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Entreg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ción y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. de pedidos y análisis de ven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ompromisos Cliente</a:t>
                      </a:r>
                      <a:br>
                        <a:rPr sz="1300"/>
                      </a:b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uentas cla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s de Servici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comerc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compromis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 Cla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 de Servicio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PERSONAL</cp:lastModifiedBy>
  <dcterms:modified xsi:type="dcterms:W3CDTF">2010-09-26T14:47:45Z</dcterms:modified>
  <cp:revision>4</cp:revision>
  <dc:subject/>
  <dc:title>Diapositiva 1</dc:title>
</cp:coreProperties>
</file>