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79300" cy="9132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FF2-C900-48C5-8901-E95EEA31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B73-1369-4520-99B9-68D5A69F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B08-1924-4EE6-81DD-7B063C7A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61D-AB74-4353-831C-F635D3EA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D6C-720C-4ADB-BE84-8A5FCFF5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69E-F5F3-4042-A10D-28902EC5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522-7401-4E39-B60B-CDCFEF29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E46-A51B-4820-9379-40538730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8E9-A111-4A74-9F9E-E70093AB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B98-B7D4-4814-8347-F3F3B245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7B3-844A-4644-9739-EE673A0D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DE0-AB6C-4FF3-9514-ACC7106B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8318160"/>
            <a:ext cx="284184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318160"/>
            <a:ext cx="385776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318160"/>
            <a:ext cx="284148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D89B4F0-87E3-41DA-A9E0-D1D044312FA5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787920" y="2265480"/>
          <a:ext cx="4697280" cy="3975120"/>
        </p:xfrm>
        <a:graphic>
          <a:graphicData uri="http://schemas.openxmlformats.org/drawingml/2006/table">
            <a:tbl>
              <a:tblPr/>
              <a:tblGrid>
                <a:gridCol w="861840"/>
                <a:gridCol w="3835440"/>
              </a:tblGrid>
              <a:tr h="5824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L RECURSO HUMA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IZ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3211560" y="1019160"/>
            <a:ext cx="5851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S DEL CASO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20720" y="5240160"/>
            <a:ext cx="244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23880" y="1976400"/>
          <a:ext cx="11221920" cy="5775480"/>
        </p:xfrm>
        <a:graphic>
          <a:graphicData uri="http://schemas.openxmlformats.org/drawingml/2006/table">
            <a:tbl>
              <a:tblPr/>
              <a:tblGrid>
                <a:gridCol w="1650960"/>
                <a:gridCol w="349200"/>
                <a:gridCol w="3306960"/>
                <a:gridCol w="1596960"/>
                <a:gridCol w="1919160"/>
                <a:gridCol w="2398680"/>
              </a:tblGrid>
              <a:tr h="6174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ESTRATEG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ficación Estratégic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Información Relev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ción Propósito, Misión, Valores y Polític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ESTRATEG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liegue de Objetivos Plan de Gestión Comunicación Propósito, Misión, Valores, Políticas y Estrategia 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de Gestión Control Gestión Control presupues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 TALENTO HUM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ocato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ámenes psicotécn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 pers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De entrevistados vs. Numero de ad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E TALENTO HUMANO PARTES TERCERIZA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exám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entrevi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satisfac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 la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828880" y="922320"/>
            <a:ext cx="7481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RIZ PARA PRIORIZAR LOS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09480" y="365040"/>
          <a:ext cx="10960200" cy="7858080"/>
        </p:xfrm>
        <a:graphic>
          <a:graphicData uri="http://schemas.openxmlformats.org/drawingml/2006/table">
            <a:tbl>
              <a:tblPr/>
              <a:tblGrid>
                <a:gridCol w="2024280"/>
                <a:gridCol w="287280"/>
                <a:gridCol w="2871720"/>
                <a:gridCol w="1558800"/>
                <a:gridCol w="1874880"/>
                <a:gridCol w="234324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 de solicitudes de servicio, fecha, comportamiento históric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de acuerdo a horarios Banco de la Repu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r r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del personal de escol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cuerdo al monto a transpor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de reportes en vía de comunicación push to talk (Avantel o Comcel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preci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programados vs. Reportes hech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roblemas vs rutas con incident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programado vs. tiempo utiliz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y reporte de cumpli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st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para 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ordenes recibidas vs No de ordenes cumpli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con  problemas vs. Ordenes exitos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e de opera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es, conta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recib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i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a devolu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ón rut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personal dependiendo de la ruta (grado de seguridad, vulnerab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push to talk (Avant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entregados vs. Pedidos devuel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a tiempo vs, pedidos con retra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cumpl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no-conform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devol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365040"/>
          <a:ext cx="10960200" cy="6988320"/>
        </p:xfrm>
        <a:graphic>
          <a:graphicData uri="http://schemas.openxmlformats.org/drawingml/2006/table">
            <a:tbl>
              <a:tblPr/>
              <a:tblGrid>
                <a:gridCol w="1735200"/>
                <a:gridCol w="289080"/>
                <a:gridCol w="3159000"/>
                <a:gridCol w="1558800"/>
                <a:gridCol w="1874880"/>
                <a:gridCol w="234324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COMER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de client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Necesidades y expectativas de Clie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Reclamaciones Clie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entregas a client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Visi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Plan comer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l. Compromis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Entreg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ción y visi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. de pedidos y análisis de ven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Compromisos Cliente</a:t>
                      </a:r>
                      <a:br>
                        <a:rPr sz="1300"/>
                      </a:b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cuentas clav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Cs de Servici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Visit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Visit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comerc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compromis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 Clav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24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C de Servicio</a:t>
                      </a: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mantenimi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horas trabajados vs. horas en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sier de cada vehiculo, moto, máquina, equipo de comp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mantenimiento o alistamiento según progra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ón lista de chequeo todos los dí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visu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ercances vs. Rutas con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de chequ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iario comportamiento del vehicu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s de actualización 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ejo de ar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os de operación de la delincu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ción efec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interpers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ción y toma de dec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asis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s de efe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21:00:03Z</dcterms:created>
  <dc:creator>User</dc:creator>
  <dc:description/>
  <dc:language>en-US</dc:language>
  <cp:lastModifiedBy>PERSONAL</cp:lastModifiedBy>
  <dcterms:modified xsi:type="dcterms:W3CDTF">2010-09-26T14:47:45Z</dcterms:modified>
  <cp:revision>4</cp:revision>
  <dc:subject/>
  <dc:title>Diapositiva 1</dc:title>
</cp:coreProperties>
</file>