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057-AC17-40D3-95AC-8337ED94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DDA-F715-47A3-923F-654FB790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AA0-A17A-49FB-B13E-07645B98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ACB-1CC5-4D9A-AB43-59E3F40D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C0F-9B46-4D3E-8C8F-5406C1C2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912-624A-4B82-BD79-3F2B6049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EFB-7B63-4924-894C-94EFABDF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B7E-5D59-471B-8C55-A41585C1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50D-EC4D-4721-9A83-14EC344E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07E-7C7D-45CD-BFDD-4B51B9A4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E99-018D-4F9C-BAF7-DD6CC983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8AD-1B64-401E-B098-1B91A189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8318160"/>
            <a:ext cx="284184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318160"/>
            <a:ext cx="385776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8160"/>
            <a:ext cx="2841480" cy="633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lstStyle>
            <a:lvl1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CB7E1252-19E7-4F40-AD3F-76FA6383732F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7920" y="2265480"/>
          <a:ext cx="4697280" cy="3975120"/>
        </p:xfrm>
        <a:graphic>
          <a:graphicData uri="http://schemas.openxmlformats.org/drawingml/2006/table">
            <a:tbl>
              <a:tblPr/>
              <a:tblGrid>
                <a:gridCol w="861840"/>
                <a:gridCol w="3835440"/>
              </a:tblGrid>
              <a:tr h="5824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L RECURSO HUMA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IZAC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211560" y="1019160"/>
            <a:ext cx="5851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S DEL CASO DE E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20720" y="5240160"/>
            <a:ext cx="244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23880" y="1976400"/>
          <a:ext cx="11221920" cy="5775480"/>
        </p:xfrm>
        <a:graphic>
          <a:graphicData uri="http://schemas.openxmlformats.org/drawingml/2006/table">
            <a:tbl>
              <a:tblPr/>
              <a:tblGrid>
                <a:gridCol w="1650960"/>
                <a:gridCol w="349200"/>
                <a:gridCol w="3306960"/>
                <a:gridCol w="1596960"/>
                <a:gridCol w="1919160"/>
                <a:gridCol w="2398680"/>
              </a:tblGrid>
              <a:tr h="6174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ESTRATE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ficación Estratég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Información 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ón Propósito, Misión, Valores y Polític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ESTRATEG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liegue de Objetivos Plan de Gestión Comunicación Propósito, Misión, Valores, Políticas y Estrategia 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Gestión Control Gestión Control presupues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DE TALENTO HUM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ocato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ámenes psicotécn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 pers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De entrevistados vs. Numero de ad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E TALENTO HUMANO PARTES TERCERIZA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exám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ntrevi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polígraf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 domicili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Investi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satisfac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o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1680" rIns="121680" tIns="60840" bIns="608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de la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1680" marR="121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828880" y="922320"/>
            <a:ext cx="7481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RIZ PARA PRIORIZAR LOS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09480" y="365040"/>
          <a:ext cx="10960200" cy="7858080"/>
        </p:xfrm>
        <a:graphic>
          <a:graphicData uri="http://schemas.openxmlformats.org/drawingml/2006/table">
            <a:tbl>
              <a:tblPr/>
              <a:tblGrid>
                <a:gridCol w="2024280"/>
                <a:gridCol w="287280"/>
                <a:gridCol w="2871720"/>
                <a:gridCol w="1558800"/>
                <a:gridCol w="1874880"/>
                <a:gridCol w="234324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VISION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de solicitudes de servicio, fecha, comportamiento históric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de acuerdo a horarios Banco de la Repu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r r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del personal de escol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acuerdo al monto a transpor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de reportes en vía de comunicación push to talk (Avantel o Comce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preci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s programados vs. Reportes hech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roblemas vs rutas con incident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programado vs. tiempo utiliz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S LOGÍSTICA Y DE VIGILA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y reporte de cumpli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st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para 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ordenes recibidas vs No de ordenes cumpli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con  problemas vs. Ordenes exitosa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e de oper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es, contador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entreg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bante de recib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servic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is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volu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ación rut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 personal dependiendo de la ruta (grado de seguridad, vulnerab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G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o push to talk (Avant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entregados vs. Pedidos devuel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idos a tiempo vs, pedidos con retra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logí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cumpl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no-conform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de devolu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365040"/>
          <a:ext cx="10960200" cy="6988320"/>
        </p:xfrm>
        <a:graphic>
          <a:graphicData uri="http://schemas.openxmlformats.org/drawingml/2006/table">
            <a:tbl>
              <a:tblPr/>
              <a:tblGrid>
                <a:gridCol w="1735200"/>
                <a:gridCol w="289080"/>
                <a:gridCol w="3159000"/>
                <a:gridCol w="1558800"/>
                <a:gridCol w="1874880"/>
                <a:gridCol w="234324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ROCES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S RELACION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ON COMER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de client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ción Necesidades y expectativas de Cli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Reclamaciones Cli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entregas a client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Visi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Plan comer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l. Compromis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. Entreg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ción y visi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. de pedidos y análisis de vent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Compromisos Cliente</a:t>
                      </a:r>
                      <a:br>
                        <a:rPr sz="1300"/>
                      </a:b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cuentas clav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Cs de Servici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Visit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Visit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comerc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compromis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 Clav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24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C de Servicio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ción mantenimi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e horas trabajados vs. horas en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amento de manteni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sier de cada vehiculo, moto, máquina, equipo de comp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es de mantenimiento o alistamiento según progra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ón lista de chequeo todos los d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visu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tas sin percances vs. Rutas con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de chequ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iario comportamiento del vehicu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 de incidentes mecán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C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s de actualización 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ejo de ar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os de operación de la delincu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ción efec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interpers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ción y toma de dec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A DIREC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asis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s de efe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1217520"/>
                          <a:tab algn="l" pos="2435400"/>
                          <a:tab algn="l" pos="3652920"/>
                          <a:tab algn="l" pos="4870440"/>
                          <a:tab algn="l" pos="6087960"/>
                          <a:tab algn="l" pos="7305840"/>
                          <a:tab algn="l" pos="8523360"/>
                          <a:tab algn="l" pos="9740880"/>
                          <a:tab algn="l" pos="109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21:00:03Z</dcterms:created>
  <dc:creator>User</dc:creator>
  <dc:description/>
  <dc:language>en-US</dc:language>
  <cp:lastModifiedBy>PERSONAL</cp:lastModifiedBy>
  <dcterms:modified xsi:type="dcterms:W3CDTF">2010-09-26T14:47:45Z</dcterms:modified>
  <cp:revision>4</cp:revision>
  <dc:subject/>
  <dc:title>Diapositiva 1</dc:title>
</cp:coreProperties>
</file>